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DCF-6A3F-4FA6-B587-B5FBC6CE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BBA-810C-400A-8E77-ABC31BC6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D0B-29BA-4D7F-8160-AED4C605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979-C100-4E8F-8F0A-4860BE53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B6CA-BAEE-42F4-88CB-37A39067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F014-167F-492C-9CAD-11F7B2DD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C2A4-A5D2-4B8D-A7C6-EFFB6611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E893-8129-4D9F-967C-87252730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0740-A142-4011-9FBA-1E51F861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6A1E-2EFA-4D21-88DA-9D015B4D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84EA-1EF7-4B7A-9F96-098AC747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FFF-2479-40AC-9D0F-ECA24076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34F8-DCE6-4D7C-A7EB-F3B75D1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3CC3-29FE-44DD-8CA0-D6435080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1237-CFD3-4B7E-A6D4-EFE73A0E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F786-85F9-4D96-8F78-D4AE83A1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2F03-5F95-4444-B0E1-A002E9D4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0B3-7FAE-4441-966A-85FDBA23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9B1-E2F4-40D5-8335-AB2FE704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CE9-B85D-4200-86F7-37A2E53F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89B-3E82-49D2-8048-2FB3D4C5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85D-CAA5-4E81-AB20-AF6705B7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785-E310-46D0-A2DD-6072DE6B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3EE-7942-4D9D-B9FF-8F9E97BA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9A02-86F2-4761-96F7-DCF3F944E5F1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5FEF-3A04-408A-8452-86A46DF49829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6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Z:\SIMPOI 2018\LOGOS\logo_simpoi.png"/>
          <p:cNvPicPr/>
          <p:nvPr/>
        </p:nvPicPr>
        <p:blipFill>
          <a:blip r:embed="rId2"/>
          <a:stretch/>
        </p:blipFill>
        <p:spPr>
          <a:xfrm>
            <a:off x="2700360" y="-12600"/>
            <a:ext cx="3024000" cy="127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"/>
              </a:rPr>
              <a:t>Título do Art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Au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Institui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1722600" y="3081240"/>
            <a:ext cx="15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2600" y="3081240"/>
            <a:ext cx="15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ço Reservado para Conteúdo 2"/>
          <p:cNvSpPr/>
          <p:nvPr/>
        </p:nvSpPr>
        <p:spPr>
          <a:xfrm>
            <a:off x="457200" y="3141720"/>
            <a:ext cx="8147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ítulo 1"/>
          <p:cNvSpPr/>
          <p:nvPr/>
        </p:nvSpPr>
        <p:spPr>
          <a:xfrm>
            <a:off x="468360" y="136836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  <a:ea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ítulo 1"/>
          <p:cNvSpPr/>
          <p:nvPr/>
        </p:nvSpPr>
        <p:spPr>
          <a:xfrm>
            <a:off x="468360" y="1512720"/>
            <a:ext cx="77724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  <a:ea typeface="Arial"/>
              </a:rPr>
              <a:t>Método Utiliz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ço Reservado para Conteúdo 2"/>
          <p:cNvSpPr/>
          <p:nvPr/>
        </p:nvSpPr>
        <p:spPr>
          <a:xfrm>
            <a:off x="457200" y="3213000"/>
            <a:ext cx="8147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ítulo 1"/>
          <p:cNvSpPr/>
          <p:nvPr/>
        </p:nvSpPr>
        <p:spPr>
          <a:xfrm>
            <a:off x="468360" y="144000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  <a:ea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57200" y="3213000"/>
            <a:ext cx="81471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ítulo 1"/>
          <p:cNvSpPr/>
          <p:nvPr/>
        </p:nvSpPr>
        <p:spPr>
          <a:xfrm>
            <a:off x="468360" y="136836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  <a:ea typeface="Arial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Conteúdo 2"/>
          <p:cNvSpPr/>
          <p:nvPr/>
        </p:nvSpPr>
        <p:spPr>
          <a:xfrm>
            <a:off x="457200" y="3068640"/>
            <a:ext cx="81471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  <a:ea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9:15:58Z</dcterms:created>
  <dc:creator>simpoi</dc:creator>
  <dc:description/>
  <dc:language>en-US</dc:language>
  <cp:lastModifiedBy>andreia.mualem</cp:lastModifiedBy>
  <dcterms:modified xsi:type="dcterms:W3CDTF">2018-05-29T13:47:19Z</dcterms:modified>
  <cp:revision>18</cp:revision>
  <dc:subject/>
  <dc:title>Slide 1</dc:title>
</cp:coreProperties>
</file>