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34CB-3D5D-4934-825B-DD0EE9406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5564-8F69-42F8-8327-A156719A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F865-2DFC-4DA4-B905-DF7CD9F61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51D2-4105-45E7-9E42-9078AF34D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A73B-459A-4021-A071-DE12BEA2D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1906-01FB-4BAF-B137-22D5C6FC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66D1-40F3-48B1-BA7D-A35B1F8D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98D8-A219-40BA-AFF9-D6481463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962F-78AD-48DD-81B8-8738BFBF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B083-4837-41E3-AA83-90EE4EC5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0D70-07FF-450D-BEFC-ACD036B0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06D5-6D11-46F9-A82D-E6B5CEF2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3628-F569-4380-8A3D-9269E293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FEBA-E11E-4227-BF38-6C618327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B203-2B11-4487-84EE-A45B1428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7ECD-CE4C-4DFF-936E-27AC07BD4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599B-19E5-4934-B77D-B61EA6288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EBF1-8347-42DA-8646-7012A25D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D033-18A1-44C7-9699-4417BC24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B3B9-6F48-4E61-9E06-C34EDEE9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2BDB-5E1F-45AE-B3B7-63C28C1A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4B95-7011-4A34-A6F6-7108C189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53A4-FD28-4964-9EA6-E8DA9893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C03B-4AF8-4402-B0EC-90FE0E7E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bfbf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5A3F-C619-4D0D-AC07-89EE185FA7C4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bfbf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28EE-742B-4216-BFC7-CC4007ED15BD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tângulo 6"/>
          <p:cNvSpPr/>
          <p:nvPr/>
        </p:nvSpPr>
        <p:spPr>
          <a:xfrm>
            <a:off x="0" y="1268280"/>
            <a:ext cx="9144000" cy="5589720"/>
          </a:xfrm>
          <a:prstGeom prst="rect">
            <a:avLst/>
          </a:prstGeom>
          <a:noFill/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Z:\SIMPOI 2018\LOGOS\logo_simpoi.png"/>
          <p:cNvPicPr/>
          <p:nvPr/>
        </p:nvPicPr>
        <p:blipFill>
          <a:blip r:embed="rId2"/>
          <a:stretch/>
        </p:blipFill>
        <p:spPr>
          <a:xfrm>
            <a:off x="2700360" y="-12600"/>
            <a:ext cx="3024000" cy="1272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2060"/>
                </a:solidFill>
                <a:latin typeface="Calibri"/>
              </a:rPr>
              <a:t>Título do Arti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Calibri"/>
              </a:rPr>
              <a:t>Aut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Calibri"/>
              </a:rPr>
              <a:t>Instituiç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Calibri"/>
              </a:rPr>
              <a:t>E-ma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1722600" y="3081240"/>
            <a:ext cx="153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2600" y="3081240"/>
            <a:ext cx="153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Espaço Reservado para Conteúdo 2"/>
          <p:cNvSpPr/>
          <p:nvPr/>
        </p:nvSpPr>
        <p:spPr>
          <a:xfrm>
            <a:off x="457200" y="3141720"/>
            <a:ext cx="81471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nonononono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nononono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nononono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ítulo 1"/>
          <p:cNvSpPr/>
          <p:nvPr/>
        </p:nvSpPr>
        <p:spPr>
          <a:xfrm>
            <a:off x="468360" y="1368360"/>
            <a:ext cx="77724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2060"/>
                </a:solidFill>
                <a:latin typeface="Arial"/>
                <a:ea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ítulo 1"/>
          <p:cNvSpPr/>
          <p:nvPr/>
        </p:nvSpPr>
        <p:spPr>
          <a:xfrm>
            <a:off x="468360" y="1512720"/>
            <a:ext cx="777240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2060"/>
                </a:solidFill>
                <a:latin typeface="Arial"/>
                <a:ea typeface="Arial"/>
              </a:rPr>
              <a:t>Método Utiliza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Espaço Reservado para Conteúdo 2"/>
          <p:cNvSpPr/>
          <p:nvPr/>
        </p:nvSpPr>
        <p:spPr>
          <a:xfrm>
            <a:off x="457200" y="3213000"/>
            <a:ext cx="8147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nonononono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nononono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nononono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ítulo 1"/>
          <p:cNvSpPr/>
          <p:nvPr/>
        </p:nvSpPr>
        <p:spPr>
          <a:xfrm>
            <a:off x="468360" y="1440000"/>
            <a:ext cx="77724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2060"/>
                </a:solidFill>
                <a:latin typeface="Arial"/>
                <a:ea typeface="Arial"/>
              </a:rPr>
              <a:t>Resulta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ço Reservado para Conteúdo 2"/>
          <p:cNvSpPr/>
          <p:nvPr/>
        </p:nvSpPr>
        <p:spPr>
          <a:xfrm>
            <a:off x="457200" y="3213000"/>
            <a:ext cx="814716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nonononono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nononono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nononono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ítulo 1"/>
          <p:cNvSpPr/>
          <p:nvPr/>
        </p:nvSpPr>
        <p:spPr>
          <a:xfrm>
            <a:off x="468360" y="1368360"/>
            <a:ext cx="77724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2060"/>
                </a:solidFill>
                <a:latin typeface="Arial"/>
                <a:ea typeface="Arial"/>
              </a:rPr>
              <a:t>Conclusõ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ço Reservado para Conteúdo 2"/>
          <p:cNvSpPr/>
          <p:nvPr/>
        </p:nvSpPr>
        <p:spPr>
          <a:xfrm>
            <a:off x="457200" y="3068640"/>
            <a:ext cx="814716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nonononono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nononono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nononono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19:15:58Z</dcterms:created>
  <dc:creator>simpoi</dc:creator>
  <dc:description/>
  <dc:language>en-US</dc:language>
  <cp:lastModifiedBy>andreia.mualem</cp:lastModifiedBy>
  <dcterms:modified xsi:type="dcterms:W3CDTF">2018-05-29T13:47:19Z</dcterms:modified>
  <cp:revision>18</cp:revision>
  <dc:subject/>
  <dc:title>Slide 1</dc:title>
</cp:coreProperties>
</file>