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5B07-9AE3-4D6A-90E8-8A2CED6F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FFE-A626-4FB1-BC12-60131C6E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4C1-48EE-4C50-B354-BCDEAE03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89A-C5CA-4AC5-8A2A-7F1C8083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596B-D295-49AD-BFAF-89610161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5F90-B6D7-42D9-8860-D99A55E3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8303-53FD-4AA1-BB6B-8298BB96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7DEA-F650-45A9-B9D3-4050015E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B7E2-9988-4096-80AA-F613B20C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C265-2CCA-4AB2-B6A0-DBD262B4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B92F-592D-48E1-8513-6BBFFCFD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825C-E3D3-41A1-A460-1680B068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6378-71C6-490C-8E2C-41436A71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B183-888C-43CF-B1F3-70422B1F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F116-6322-434B-BF02-2C8AF6D0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87BB-B14C-49B1-B910-482D800E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7080-205A-4135-B300-64AE2423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584-8CFA-40ED-81AF-C2757249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B18-B503-4888-AFAB-2AA84FC6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733-F04D-4DF3-81CD-7C5410A4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871-6AFA-407D-845E-D287AF72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D45-2050-40D4-8919-BA7910D5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258-E9D0-4265-8533-31D671EA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8F9-EDD2-42BC-B53A-9724015E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fbf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41B2-067F-4F43-A6D0-34E9AF975808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fbf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DA0F-3475-4EF7-86CF-D3E9E902EDD4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tângulo 6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Z:\SIMPOI 2018\LOGOS\logo_simpoi.png"/>
          <p:cNvPicPr/>
          <p:nvPr/>
        </p:nvPicPr>
        <p:blipFill>
          <a:blip r:embed="rId2"/>
          <a:stretch/>
        </p:blipFill>
        <p:spPr>
          <a:xfrm>
            <a:off x="2700360" y="-12600"/>
            <a:ext cx="3024000" cy="127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Calibri"/>
              </a:rPr>
              <a:t>Título do Art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Calibri"/>
              </a:rPr>
              <a:t>Au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Calibri"/>
              </a:rPr>
              <a:t>Institui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Calibri"/>
              </a:rPr>
              <a:t>E-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1722600" y="3081240"/>
            <a:ext cx="15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2600" y="3081240"/>
            <a:ext cx="15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ço Reservado para Conteúdo 2"/>
          <p:cNvSpPr/>
          <p:nvPr/>
        </p:nvSpPr>
        <p:spPr>
          <a:xfrm>
            <a:off x="457200" y="3141720"/>
            <a:ext cx="81471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ítulo 1"/>
          <p:cNvSpPr/>
          <p:nvPr/>
        </p:nvSpPr>
        <p:spPr>
          <a:xfrm>
            <a:off x="468360" y="136836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  <a:ea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ítulo 1"/>
          <p:cNvSpPr/>
          <p:nvPr/>
        </p:nvSpPr>
        <p:spPr>
          <a:xfrm>
            <a:off x="468360" y="1512720"/>
            <a:ext cx="77724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  <a:ea typeface="Arial"/>
              </a:rPr>
              <a:t>Método Utiliz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ço Reservado para Conteúdo 2"/>
          <p:cNvSpPr/>
          <p:nvPr/>
        </p:nvSpPr>
        <p:spPr>
          <a:xfrm>
            <a:off x="457200" y="3213000"/>
            <a:ext cx="8147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ítulo 1"/>
          <p:cNvSpPr/>
          <p:nvPr/>
        </p:nvSpPr>
        <p:spPr>
          <a:xfrm>
            <a:off x="468360" y="144000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  <a:ea typeface="Arial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ço Reservado para Conteúdo 2"/>
          <p:cNvSpPr/>
          <p:nvPr/>
        </p:nvSpPr>
        <p:spPr>
          <a:xfrm>
            <a:off x="457200" y="3213000"/>
            <a:ext cx="81471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ítulo 1"/>
          <p:cNvSpPr/>
          <p:nvPr/>
        </p:nvSpPr>
        <p:spPr>
          <a:xfrm>
            <a:off x="468360" y="136836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  <a:ea typeface="Arial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ço Reservado para Conteúdo 2"/>
          <p:cNvSpPr/>
          <p:nvPr/>
        </p:nvSpPr>
        <p:spPr>
          <a:xfrm>
            <a:off x="457200" y="3068640"/>
            <a:ext cx="81471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9:15:58Z</dcterms:created>
  <dc:creator>simpoi</dc:creator>
  <dc:description/>
  <dc:language>en-US</dc:language>
  <cp:lastModifiedBy>andreia.mualem</cp:lastModifiedBy>
  <dcterms:modified xsi:type="dcterms:W3CDTF">2018-05-29T13:47:19Z</dcterms:modified>
  <cp:revision>18</cp:revision>
  <dc:subject/>
  <dc:title>Slide 1</dc:title>
</cp:coreProperties>
</file>