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E4AB-E258-406B-BE54-04AB48A8E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928F-FEE6-41DC-A1ED-EBAF9F8D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048D-C490-4A97-A9C4-E7E324E57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9549-D724-4EDE-91F6-3CB008F44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C5FC-B028-41BC-BD59-84CBA2E64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6C19-0B50-4B09-9E8D-7E48FE08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FD54-97C3-4EE7-A638-06ED80A6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55F5-A7D9-4222-97A6-7F06932D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B586-7E62-42AA-8468-3F4B137C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5834-C0FB-439F-AAF1-ED0F256B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E82C-2C20-4E2E-9EE4-570F0527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573A-1DD2-4FE4-BFC5-3C14F627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6344-05F9-4EDA-8A65-BE8B3751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AD053-8222-45BC-90DB-59507CDD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9B0EC-4845-4526-9C8B-53A3F36C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8C04-72AD-403B-AC10-C8F6A07CA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A95B-CE02-47B9-B1B2-EA5302A58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0FBA-745A-4969-852B-1C01E3F5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6E3C-6C8D-4132-A18C-65F4B6C9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D9B6-CE25-4171-9AD7-6AACF87A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BFA4-AA84-4FA4-B2EC-FEBC76E0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7869-FF13-445C-9E3D-C31B32CE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A399-D5F3-4FB3-A3A9-1D97D910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291C-DC53-4360-8367-6F1BB4A5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bfbf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EF777-488D-4310-B2A6-8872D089A2D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bfbf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8DD9-57CC-4974-AE3D-450648DD82BE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tângulo 6"/>
          <p:cNvSpPr/>
          <p:nvPr/>
        </p:nvSpPr>
        <p:spPr>
          <a:xfrm>
            <a:off x="0" y="1268280"/>
            <a:ext cx="9144000" cy="5589720"/>
          </a:xfrm>
          <a:prstGeom prst="rect">
            <a:avLst/>
          </a:prstGeom>
          <a:noFill/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Z:\SIMPOI 2018\LOGOS\logo_simpoi.png"/>
          <p:cNvPicPr/>
          <p:nvPr/>
        </p:nvPicPr>
        <p:blipFill>
          <a:blip r:embed="rId2"/>
          <a:stretch/>
        </p:blipFill>
        <p:spPr>
          <a:xfrm>
            <a:off x="2700360" y="-12600"/>
            <a:ext cx="3024000" cy="12729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2060"/>
                </a:solidFill>
                <a:latin typeface="Calibri"/>
              </a:rPr>
              <a:t>Título do Arti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Calibri"/>
              </a:rPr>
              <a:t>Aut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Calibri"/>
              </a:rPr>
              <a:t>Instituiçã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Calibri"/>
              </a:rPr>
              <a:t>E-ma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1722600" y="3081240"/>
            <a:ext cx="153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2600" y="3081240"/>
            <a:ext cx="153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ço Reservado para Conteúdo 2"/>
          <p:cNvSpPr/>
          <p:nvPr/>
        </p:nvSpPr>
        <p:spPr>
          <a:xfrm>
            <a:off x="457200" y="3141720"/>
            <a:ext cx="81471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</a:rPr>
              <a:t>nonononon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2060"/>
                </a:solidFill>
                <a:latin typeface="Arial"/>
              </a:rPr>
              <a:t>nononon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2060"/>
                </a:solidFill>
                <a:latin typeface="Arial"/>
              </a:rPr>
              <a:t>nononon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ítulo 1"/>
          <p:cNvSpPr/>
          <p:nvPr/>
        </p:nvSpPr>
        <p:spPr>
          <a:xfrm>
            <a:off x="468360" y="1368360"/>
            <a:ext cx="77724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2060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ítulo 1"/>
          <p:cNvSpPr/>
          <p:nvPr/>
        </p:nvSpPr>
        <p:spPr>
          <a:xfrm>
            <a:off x="468360" y="1512720"/>
            <a:ext cx="777240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2060"/>
                </a:solidFill>
                <a:latin typeface="Arial"/>
              </a:rPr>
              <a:t>Método Utiliz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Espaço Reservado para Conteúdo 2"/>
          <p:cNvSpPr/>
          <p:nvPr/>
        </p:nvSpPr>
        <p:spPr>
          <a:xfrm>
            <a:off x="457200" y="3213000"/>
            <a:ext cx="8147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</a:rPr>
              <a:t>nonononon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2060"/>
                </a:solidFill>
                <a:latin typeface="Arial"/>
              </a:rPr>
              <a:t>nononon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2060"/>
                </a:solidFill>
                <a:latin typeface="Arial"/>
              </a:rPr>
              <a:t>nononon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ítulo 1"/>
          <p:cNvSpPr/>
          <p:nvPr/>
        </p:nvSpPr>
        <p:spPr>
          <a:xfrm>
            <a:off x="468360" y="1440000"/>
            <a:ext cx="77724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2060"/>
                </a:solidFill>
                <a:latin typeface="Arial"/>
              </a:rPr>
              <a:t>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ço Reservado para Conteúdo 2"/>
          <p:cNvSpPr/>
          <p:nvPr/>
        </p:nvSpPr>
        <p:spPr>
          <a:xfrm>
            <a:off x="457200" y="3213000"/>
            <a:ext cx="814716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</a:rPr>
              <a:t>nonononon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2060"/>
                </a:solidFill>
                <a:latin typeface="Arial"/>
              </a:rPr>
              <a:t>nononon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2060"/>
                </a:solidFill>
                <a:latin typeface="Arial"/>
              </a:rPr>
              <a:t>nononon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ítulo 1"/>
          <p:cNvSpPr/>
          <p:nvPr/>
        </p:nvSpPr>
        <p:spPr>
          <a:xfrm>
            <a:off x="468360" y="1368360"/>
            <a:ext cx="77724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2060"/>
                </a:solidFill>
                <a:latin typeface="Arial"/>
              </a:rPr>
              <a:t>Conclus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ço Reservado para Conteúdo 2"/>
          <p:cNvSpPr/>
          <p:nvPr/>
        </p:nvSpPr>
        <p:spPr>
          <a:xfrm>
            <a:off x="457200" y="3068640"/>
            <a:ext cx="814716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</a:rPr>
              <a:t>nonononon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2060"/>
                </a:solidFill>
                <a:latin typeface="Arial"/>
              </a:rPr>
              <a:t>nononon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2060"/>
                </a:solidFill>
                <a:latin typeface="Arial"/>
              </a:rPr>
              <a:t>nononon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2T19:15:58Z</dcterms:created>
  <dc:creator>simpoi</dc:creator>
  <dc:description/>
  <dc:language>en-US</dc:language>
  <cp:lastModifiedBy>andreia.mualem</cp:lastModifiedBy>
  <dcterms:modified xsi:type="dcterms:W3CDTF">2018-07-16T13:48:13Z</dcterms:modified>
  <cp:revision>18</cp:revision>
  <dc:subject/>
  <dc:title>Slide 1</dc:title>
</cp:coreProperties>
</file>