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4C3-0ED1-4B65-9725-72EFCDA3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2AC-6FC3-4665-BD87-472716A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81C-E281-42D9-B4F0-F9B25D9B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63C-5733-41E2-B387-85B5DD2E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9A0C-408C-400D-B68C-E092E9CF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3AA-37FC-4D96-B44F-CD45C5BE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F8E4-0776-46C4-8A86-41025292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3F92-D7A4-4F64-BA8C-5DC8EB3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1CC5-0B73-48AE-978D-E3D8EA38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F197-E6DE-465B-8AC4-F446C9E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37F2-8D8B-42B0-B78D-1C0D20A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645-CAD1-4D93-B2F4-4585FF43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0616-6009-4CBA-A1A8-4F45A69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2F91-1C71-4AA5-B50B-8A41AF8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A001-2F7A-45F6-B7D4-DC17140B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4324-958E-4C74-ABC5-6D00B9CB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D578-778B-4FA6-9E42-5BD7EC2E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A62-5F57-457C-80CE-966AA015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775-A092-43A8-8144-3A4543F3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94B-8758-473D-B15D-644B819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CB5-286F-42FB-BA83-162750E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CF3-CA50-4A6E-8170-26F8A69B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D83-1331-41B6-8516-235C507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C6E-82BE-4272-B396-368460BF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B329-B56F-489D-90E1-DD2388D2FF4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bfb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6B19-9B44-400F-92CD-FB19C4C7E39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6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Z:\SIMPOI 2018\LOGOS\logo_simpoi.png"/>
          <p:cNvPicPr/>
          <p:nvPr/>
        </p:nvPicPr>
        <p:blipFill>
          <a:blip r:embed="rId2"/>
          <a:stretch/>
        </p:blipFill>
        <p:spPr>
          <a:xfrm>
            <a:off x="2700360" y="-12600"/>
            <a:ext cx="3024000" cy="127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Calibri"/>
              </a:rPr>
              <a:t>Título do Arti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Au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Institui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Calibri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2600" y="3081240"/>
            <a:ext cx="15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Conteúdo 2"/>
          <p:cNvSpPr/>
          <p:nvPr/>
        </p:nvSpPr>
        <p:spPr>
          <a:xfrm>
            <a:off x="457200" y="3141720"/>
            <a:ext cx="8147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ítulo 1"/>
          <p:cNvSpPr/>
          <p:nvPr/>
        </p:nvSpPr>
        <p:spPr>
          <a:xfrm>
            <a:off x="468360" y="151272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Método Util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ço Reservado para Conteúdo 2"/>
          <p:cNvSpPr/>
          <p:nvPr/>
        </p:nvSpPr>
        <p:spPr>
          <a:xfrm>
            <a:off x="457200" y="3213000"/>
            <a:ext cx="8147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ítulo 1"/>
          <p:cNvSpPr/>
          <p:nvPr/>
        </p:nvSpPr>
        <p:spPr>
          <a:xfrm>
            <a:off x="468360" y="144000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57200" y="3213000"/>
            <a:ext cx="8147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ítulo 1"/>
          <p:cNvSpPr/>
          <p:nvPr/>
        </p:nvSpPr>
        <p:spPr>
          <a:xfrm>
            <a:off x="468360" y="1368360"/>
            <a:ext cx="77724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206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Conteúdo 2"/>
          <p:cNvSpPr/>
          <p:nvPr/>
        </p:nvSpPr>
        <p:spPr>
          <a:xfrm>
            <a:off x="457200" y="3068640"/>
            <a:ext cx="8147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2060"/>
                </a:solidFill>
                <a:latin typeface="Arial"/>
              </a:rPr>
              <a:t>nononon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9:15:58Z</dcterms:created>
  <dc:creator>simpoi</dc:creator>
  <dc:description/>
  <dc:language>en-US</dc:language>
  <cp:lastModifiedBy>andreia.mualem</cp:lastModifiedBy>
  <dcterms:modified xsi:type="dcterms:W3CDTF">2018-07-16T13:48:13Z</dcterms:modified>
  <cp:revision>18</cp:revision>
  <dc:subject/>
  <dc:title>Slide 1</dc:title>
</cp:coreProperties>
</file>