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262-ACAF-4373-8521-E81B17EF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ACB-8DD5-4C88-ADB3-6057ED0C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061-12C8-41A9-97F7-7D7CE265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7A3-0C49-419E-9051-6F0D7E1B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7F9D-53B8-4D2A-A7B8-20A67F04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C3B0-1882-4DBE-8AF1-91AD831A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757E-56BD-4F03-9C88-250A3A7B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1AC4-52B7-49CF-BD85-54001BB6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4216-5542-445B-B1EB-0E2C73CD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5FAD-720D-44DD-B652-C317B176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926F-76C2-495E-9003-6CB7E639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69C-8F23-40E0-9102-7B577642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653C-C032-4C0C-B903-1C9E4353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588C-7044-4C7C-9E1E-7134B8B2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76EC-D2B6-4516-846E-5AB2C89E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7BEB-6C60-4BAE-B558-1277C248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FF8E-76B8-43AB-936C-4EAE2098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950-8F7C-49E2-8F42-9A9860F7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F47-462F-4315-8872-E09B0DC1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DA3-2561-4876-86CB-FE3D5CD2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889-5F82-4CD0-A8BB-E23E94F0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112-F5C7-47CA-A998-CAE43CDD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350-4E25-499E-8215-92796E4D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7EE-CE3C-4B3D-B28A-06BC44BC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fb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1C43-A445-47DB-9671-85B997E18E6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fb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3A8E-9668-425F-BD87-3F3A1170FDE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ângulo 6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Z:\SIMPOI 2018\LOGOS\logo_simpoi.png"/>
          <p:cNvPicPr/>
          <p:nvPr/>
        </p:nvPicPr>
        <p:blipFill>
          <a:blip r:embed="rId2"/>
          <a:stretch/>
        </p:blipFill>
        <p:spPr>
          <a:xfrm>
            <a:off x="2700360" y="-12600"/>
            <a:ext cx="3024000" cy="127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Calibri"/>
              </a:rPr>
              <a:t>Título do Art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Au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Institui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E-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1722600" y="3081240"/>
            <a:ext cx="15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2600" y="3081240"/>
            <a:ext cx="15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ço Reservado para Conteúdo 2"/>
          <p:cNvSpPr/>
          <p:nvPr/>
        </p:nvSpPr>
        <p:spPr>
          <a:xfrm>
            <a:off x="457200" y="3141720"/>
            <a:ext cx="8147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ítulo 1"/>
          <p:cNvSpPr/>
          <p:nvPr/>
        </p:nvSpPr>
        <p:spPr>
          <a:xfrm>
            <a:off x="468360" y="136836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ítulo 1"/>
          <p:cNvSpPr/>
          <p:nvPr/>
        </p:nvSpPr>
        <p:spPr>
          <a:xfrm>
            <a:off x="468360" y="1512720"/>
            <a:ext cx="77724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</a:rPr>
              <a:t>Método Utiliz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ço Reservado para Conteúdo 2"/>
          <p:cNvSpPr/>
          <p:nvPr/>
        </p:nvSpPr>
        <p:spPr>
          <a:xfrm>
            <a:off x="457200" y="3213000"/>
            <a:ext cx="8147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ítulo 1"/>
          <p:cNvSpPr/>
          <p:nvPr/>
        </p:nvSpPr>
        <p:spPr>
          <a:xfrm>
            <a:off x="468360" y="144000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57200" y="3213000"/>
            <a:ext cx="81471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ítulo 1"/>
          <p:cNvSpPr/>
          <p:nvPr/>
        </p:nvSpPr>
        <p:spPr>
          <a:xfrm>
            <a:off x="468360" y="136836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ço Reservado para Conteúdo 2"/>
          <p:cNvSpPr/>
          <p:nvPr/>
        </p:nvSpPr>
        <p:spPr>
          <a:xfrm>
            <a:off x="457200" y="3068640"/>
            <a:ext cx="81471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9:15:58Z</dcterms:created>
  <dc:creator>simpoi</dc:creator>
  <dc:description/>
  <dc:language>en-US</dc:language>
  <cp:lastModifiedBy>andreia.mualem</cp:lastModifiedBy>
  <dcterms:modified xsi:type="dcterms:W3CDTF">2018-07-16T13:48:13Z</dcterms:modified>
  <cp:revision>18</cp:revision>
  <dc:subject/>
  <dc:title>Slide 1</dc:title>
</cp:coreProperties>
</file>